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WHOOSH.WAV" ContentType="audio/x-wav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4654-2CA7-43A1-93AA-0A3601D96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362-1745-4ECC-8229-DBD1C5F4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401-94C9-4D66-AD40-89601209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13D-0DC6-4674-AC94-F91AFF89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476-1230-4083-B3D7-77C4C1D3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79A-9BA3-4D9D-A401-20F0E0E3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83B-1664-4EB7-AC78-22FFFB29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D9D-D7BC-418E-AEC9-8A9A5A7F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8A3-1FFD-4A54-BD6D-D86B9FD5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5FE-1578-4E57-B8F2-4AF56F51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653-8F86-4A4C-B380-90B6D7DA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F80-6C3A-44CE-88F8-A22443E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DB9-9495-4C93-8C73-2261FC9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8CE7-4463-4B3E-959B-BA19BBB6D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>
                <a:gd name="textAreaLeft" fmla="*/ 0 w 2126160"/>
                <a:gd name="textAreaRight" fmla="*/ 2126520 w 21261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Нижний колонтитул 5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8-03-22T09:36:21Z</dcterms:modified>
  <cp:revision>53</cp:revision>
  <dc:subject/>
  <dc:title>Foundation 1 - Discovering Astronomy</dc:title>
</cp:coreProperties>
</file>